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2E89-9626-4332-A588-C9EADFECA6F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CD74-0D84-48A8-9DD7-513EE79A7B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5D59-FE12-40E2-ABB7-522126BF4D5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CFD7-0E70-476E-B23E-5E12386172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4BE-E330-4136-9B62-4260FA30B48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DBA4-E341-4E09-BE3D-3EF0BBCA027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DED4-F96E-4AB6-8BC2-024A4639AA1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8370-858A-48A7-BCF9-64BFE4A4BC1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D79-2CD7-4D85-849D-871E7A89E10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66BF-C951-4C4C-B274-9F6B01A10E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88B4-47DD-44AF-A3A5-243B9C39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1A85-70D5-4DEF-82B0-26D85EA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6EDB9-706E-4590-917A-4DC7FF18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EE56C-0F8C-40C9-A979-8F422980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EB1B-4A89-4C02-9496-6F16D960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6C29-DF53-4ADF-9AB5-C5ED2506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E14D-A672-4371-9E47-BEB9DCD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F471-6B28-45B3-B3CE-D6A49F65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BACC-6342-4F02-8D55-266747D1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D06F-EECF-4C24-9184-8594A16E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79B9-66A2-4E70-812A-90377DB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7F61-DECA-411D-8D3B-411399AE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2D06-4FB7-4D42-ABCF-20F417C3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1ADD-95C9-44BA-8755-7C5F4ADC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6F00-840D-450F-A402-83369CC0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F81D-36FC-4F42-9AF8-22164FF4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93F7-9A50-4729-A7E6-F6911C2E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6C50B-C5A5-49DA-A24C-ED29C622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7C46-87BE-48BB-B215-EB69AB51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F50A-65AD-41EE-AF20-C7DA54F8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232E-8A68-49FE-BC71-210E2637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8E10-CF41-433B-92E0-9C6C9409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DBBB-B2CD-45FA-9BE0-147DF996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07A3-07CB-4D6B-A467-9B41EAD9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7B77-E44F-4C9D-9A4F-D354BEB3400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33CF-CD4A-4690-AFCD-1721D93EC71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Alexandre_2_photo.jpg?uselang=ru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ломовщина и Маниловщ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7" descr="539"/>
          <p:cNvPicPr/>
          <p:nvPr/>
        </p:nvPicPr>
        <p:blipFill>
          <a:blip r:embed="rId1"/>
          <a:stretch/>
        </p:blipFill>
        <p:spPr>
          <a:xfrm>
            <a:off x="838080" y="1447920"/>
            <a:ext cx="3391200" cy="419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0_5005d_3ec143d4_L"/>
          <p:cNvPicPr/>
          <p:nvPr/>
        </p:nvPicPr>
        <p:blipFill>
          <a:blip r:embed="rId2"/>
          <a:stretch/>
        </p:blipFill>
        <p:spPr>
          <a:xfrm>
            <a:off x="4724280" y="1523880"/>
            <a:ext cx="3813120" cy="385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14400" y="5335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Цель исследования- установить значение терминов «обломовщина» и «маниловщина»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66680" y="2743200"/>
            <a:ext cx="6782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Раскрыть характер Обломова ( «Обломов», И.Гончар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Раскрыть характер Манилова ( «Мертвые души», Н.Гого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Выявить, являются ли образы жизни и мышления данных героев широко распространенными, имеющими значимость в общест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990720"/>
            <a:ext cx="8126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им предстает перед читателем Обломов в самом начале романа: «Это был человек лет тридцати двух-трех от роду, среднего роста, приятной наружности, с темно-серыми глазами, но с отсутствием всякой определенной идеи, всякой сосредоточенности в чертах лица…Движения его, когда он был даже встревожен, сдерживались также мягкостью и не лишенною своего рода грации ленью. Вся тревога разрешалась вздохом и замирала в апатии или дремоте. Лежание у Ильи Ильича не было… необходимостью… это было его нормальным состоянием». Домашний костюм Обломова – восточный халат, а также подробно описанный автором быт Ильи Ильича, дополняют образ героя и помогают лучше понять его характер. «По стенам, около картин, лепилась в виде фестонов паутина, напитанная пылью; зеркала, вместо того чтоб отражать предметы, могли бы служить скорее скрижалями для записывания на них по пыли каких-нибудь заметок на память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4706640"/>
            <a:ext cx="660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нами возникает персонаж далеко нелицеприятный, кажется, лень, пассивность, равнодушие глубоко укоренились в нем. Но в то же время на фоне своих «друзей», лживых, корыстных, хвастливых людей, нанесших ему визит в самом начале романа, читатель знакомиться с положительными качествами Обломова: чистотой мыслей, честностью, добротой, сердечностью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0" descr="265652147"/>
          <p:cNvPicPr/>
          <p:nvPr/>
        </p:nvPicPr>
        <p:blipFill>
          <a:blip r:embed="rId1"/>
          <a:stretch/>
        </p:blipFill>
        <p:spPr>
          <a:xfrm>
            <a:off x="6477120" y="330516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057400" y="228600"/>
            <a:ext cx="4562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Облом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853920"/>
            <a:ext cx="690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ть Обломова – типичный путь провинциальных дворян начала 19 века. Он служил в департаменте, занимался рутинной работой, из года в год ждал повышения. Но такая никчемная жизнь была не нужна герою. Он выбрал лежание на диване и стороннее созерцание пороков своего времен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Душа Обломова не лишена мечтательности. Он лирик, умеющий глубоко чувствовать. Но его образ жизни приглушил эту душевную особенность героя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17"/>
          <p:cNvPicPr/>
          <p:nvPr/>
        </p:nvPicPr>
        <p:blipFill>
          <a:blip r:embed="rId1"/>
          <a:stretch/>
        </p:blipFill>
        <p:spPr>
          <a:xfrm>
            <a:off x="5848200" y="4429080"/>
            <a:ext cx="329580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щина, по имени героя романа Ивана Гончарова «Обломов» — нарицательное слово для обозначения общественного и личностного застоя, рутины, апатии. В указанном романе слово впервые употребил Штольц, а затем его повторял и сам Обломов, характеризуя собственный образ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му явлению посвящена критическая статья Николая Александровича Добролюбова «Что такое обломовщина?», в которой публицист высказал свои взгляды на истоки обломовщины — они, по его мнению, кроются в традиционном крепостном укладе жизни России в условиях до реформы Александра I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6" descr="Александр II Николаеви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4920" y="2971800"/>
            <a:ext cx="2359080" cy="34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%D0%B1%D0%BB%D0%B0%D0%B3%D0%BE%D0%B4%D0%B0%D1%80%D0%BD%D0%BE%D1%81%D1%82%D1%8C-%D0%BA%D1%80%D0%B5%D1%81%D1%82%D1%8C%D1%8F%D0%BD-%D0%90%D0%BB%D0%B5%D0%BA%D1%81%D0%B0%D0%BD%D0%B4%D1%80%D1%83-2"/>
          <p:cNvPicPr/>
          <p:nvPr/>
        </p:nvPicPr>
        <p:blipFill>
          <a:blip r:embed="rId3"/>
          <a:stretch/>
        </p:blipFill>
        <p:spPr>
          <a:xfrm>
            <a:off x="2209680" y="2971800"/>
            <a:ext cx="4534200" cy="2649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0"/>
          <p:cNvSpPr/>
          <p:nvPr/>
        </p:nvSpPr>
        <p:spPr>
          <a:xfrm>
            <a:off x="2286000" y="5638680"/>
            <a:ext cx="31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лагодарность крестьян Александру II. Гравюра. Начало 1883 г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910560" y="649116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I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33480"/>
            <a:ext cx="9144000" cy="71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итата из критической статьи Н.А. Добролюбова, описывающая образ мышления и жизни обломовцев :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Обломов не есть существо, от природы совершенно лишенное способности произвольного движения. Его лень и апатия есть создание воспитания и окружающих обстоятельств. Главное здесь не Обломов, а обломовщ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б Илье Ильичу не лень было уехать из Петербурга в деревню, он непременно привел бы в исполнение задушевную свою идиллию.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юдей обломовцы вообще презирают с их мелким трудом, с их узкими понятиями и близорукими стремлениями. В отношении к женщинам все они ведут себя одинаково постыдным образ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бломовцы любят уничижать себя; но это они делают с той целью, чтоб иметь удовольствие быть опровергнутыми и услышать себе похвалу от тех, пред кем они себя ругаю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кровища были зарыты в натуре Обломова, только раскрыть их пред миром он никогда не м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ломовцы сначала спокойно смотрят на общее движение, но потом, по своему обыкновению, трусят и начинают кричать... "Аи, аи, - не делайте этого, оставьте, - кричат они, видя, что подсекается дерево, на котором они сидят. - Помилуйте, ведь мы можем убиться, и вместе с нами погибнут те прекрасные идеи, те высокие чувства, те гуманные стремления, то красноречие, тот пафос, любовь ко всему прекрасному и благородному, которые в нас всегда жили... Оставьте, оставьте! Что вы делаете?..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2_2b"/>
          <p:cNvPicPr/>
          <p:nvPr/>
        </p:nvPicPr>
        <p:blipFill>
          <a:blip r:embed="rId1"/>
          <a:stretch/>
        </p:blipFill>
        <p:spPr>
          <a:xfrm>
            <a:off x="5191200" y="1095480"/>
            <a:ext cx="3952800" cy="57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0" y="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щина - Мечтательное и бездеятельное отношение к окружающему, беспочвенное благодуш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0" y="12193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цы- любители приврать, взболтнуть. Они бездеятельны, т.к. практически постоянно находятся в мире своих фантаз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1676520" y="152280"/>
            <a:ext cx="6057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Характеристика Манило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135080"/>
            <a:ext cx="914400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нилов— персонаж поэмы Н.В.Гоголя «Мертвые души». Имя Манилов (от глагола «манить», «заманивать») иронически обыгрывается Гоголем. Оно пародирует лень, бесплодную мечтательность, прожектерство, сентименталь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рактер героя не определен, не уловим. «Один бог разве мог сказать, какой характер у Манилова. Есть род людей, известных под именем: ни то, ни сё, ни в городе Богдан, ни в селе Селифан.» Слабоволие Манилова подчеркивает и то, что хозяйством у помещика занимается пьяница-приказчик.Обобщенность, абстрактность, безразличие к деталям — свойства миросозерцания Манилова.В своем бесплодном идеализме Манилов антипод материалиста, практика и русофила Собакевич. Манилов - мечтатель, и мечты его полностью оторваны от действительности. "как хорошо было, если бы вдруг от дома провести подземный ход или через пруд выстроить каменный мост".Помещик только занимался прожектерством: мечтал но эти прожекты не воплощаются в жизнь. Сначала он кажется приятным человеком, но потом с ним становится смертельно скучно, потому что он не имеет собственного мнения и может только улыбаться и говорить банальные приторные фразы.В Манилове нет живых желаний, той силы жизни, которая движет человеком, заставляет его совершать какие-то поступки. В этом смысле Манилов, - мертвая душа, «не то, не сё».Он настолько типичный, серый, нехарактерный, что у него даже нет определенных склонностей к чему-либо, нет имени и отче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0" y="914400"/>
            <a:ext cx="770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считает себя воспитанным, образованным, благородным. Но заглянем к нему в кабинет. Мы видим кучки пепла, запыленную книгу, которая уже второй год открыта на 14-й странице. в доме всегда чего-нибудь недостает, только часть мебели обита шелковой тканью, а два кресла обиты рогожей. Слабоволие М. подчеркивает и то, что хозяйством у помещика занимается пьяница-приказчик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1009874_9874_301"/>
          <p:cNvPicPr/>
          <p:nvPr/>
        </p:nvPicPr>
        <p:blipFill>
          <a:blip r:embed="rId1"/>
          <a:stretch/>
        </p:blipFill>
        <p:spPr>
          <a:xfrm>
            <a:off x="6724800" y="3048120"/>
            <a:ext cx="241920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3108960" y="649116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. Н. Кедров в роли Манилов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5800" y="457200"/>
            <a:ext cx="71629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 Маниловцев и обломовцев, несомненно, есть сходные черты. И те и другие бездеятельны, мечтательны. Однако обломовцы бездеятельны в меру своего мировоззрения и образа жизни, сложившегося в результате реакции на окружающие обстоятельства. Обломовцам не по нраву напряжение и спешка. На первый взгляд Обломовцы духовно бедны, но ,на самом  деле, душевный склад таких людей довольно непрост, он кроет в себе настоящий «клад». Маниловцы же, наоборот, могут создать ощущение того, что они духовно богаты, но это ни что иное как их собственная выдумка. Фантазии Маниловцев заставляют их поверить в собственную значимость, но , на самом деле, такие люди очень просты и духовно бед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andrit</cp:lastModifiedBy>
  <dcterms:modified xsi:type="dcterms:W3CDTF">2014-01-17T22:41:55Z</dcterms:modified>
  <cp:revision>5</cp:revision>
  <dc:subject/>
  <dc:title>Обломовщина и Маниловщ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